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FB4-4B84-4518-9D0A-ACB4444D8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istics of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made of units call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- cells from 2 different parents unite to form the first cell of  the new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- new organism is formed from a sing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based on a universal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grow and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obtain and use materials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stimuli – Come from out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stimuli – Come from inside the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s a group, living things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2E3-D5DE-405E-B6C9-A6513C5E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9A8-C3BF-4650-903F-35D8ACE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00178F-752C-4109-BE26-6C63852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751BC-EE0E-4936-93C2-CA43AE02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C242E-B9C3-42A5-97A0-B7DCC3BA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77F775-0333-449C-BAA6-9226A265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F39C49-058B-4676-B6A4-3873FDF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A81AE7-0675-4A69-9E54-EC31445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32C967-4BDA-497D-AEE2-9B563D96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82E41-BE79-4CFE-8473-BEEEFD26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823AD-594B-44FC-9827-20143AB0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7C203-DA3C-4801-A0B9-7ADE74D5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B87-CEE2-4750-A4C7-6F16C3EB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3CD8B-671F-428C-86B8-B8BB560F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9935A-886B-4733-BD6F-D20B860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37460-D23F-4C09-B5FB-25C7C81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A1CA5-AA9F-4DE0-9715-D2722DDD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A00FD-7AF5-40B6-9D6F-FD7F879B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76CEA-7087-44E8-9847-D42CA629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0E4A5-AF62-47DE-80DD-D4FBDDF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F25AB-A0E1-4CE5-A4C3-2F174B6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7F9C9-67D3-456E-8137-B3CED853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F8C2A-DF38-47B5-9A88-9B49D467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E87-2AD4-4FBD-8B45-3647E549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F536C-D7E0-4357-A9C9-00DAEC37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54E93-3F4B-4013-9A2B-EA446197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43381-89B9-42BF-A0D1-ECB4F043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65B77-9631-4B09-B3FE-5E92D00B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ED48-FE93-4A7B-8F0E-0570DC96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23C9-A958-4C56-927C-D31A9FCD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FE5B1-C456-4189-8DE6-316F00B0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E2942-48B4-4AFC-A93D-0F15828D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16A9-8D1F-45EE-9B30-9E17CFBA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7E869-1304-4242-AA2E-DD7373C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D638-F009-4007-87AD-E6A88C48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5F6C5-3B8C-4B1E-A473-94ACF86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E0F94-BD78-48A9-83D4-35D83547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C56A3-1908-472C-BE82-585EBAFF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5D5F1-78CF-4486-B249-9E0B3826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53819-9130-4F42-9FA4-4B2F8A7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7FD46-02C2-492E-B0BF-AE9FE767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0247E-419E-46C3-BDE3-4D296F2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4E227-CDA1-442E-AE0D-2DEB313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AB698-A6DE-4AD4-9AB9-2E8F8AC5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031BD-EE0F-4A9E-B4B8-C28C7944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6035-E4F4-4113-8A4E-D951DAB6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C78AD-1999-44E8-ADE3-9F7BD08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0A19F-F01C-4244-85AB-01F6C095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D8C10-FBEE-4C39-8455-A78A32CA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5121E-88E7-4445-8F8F-9AB6C95F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66DE1-BBAC-4BFF-9A31-2DFCA933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1141F-0B03-4035-BAF2-EBBE3C12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E9920-DE34-4338-8F9F-6CFA8DEF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1462B-3C3A-4461-8803-0A2AFE27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38C43-A828-4EF5-ACBC-1DDDFC5C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4269A-D457-452E-B611-5B56779A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E112-C69D-45A7-8B06-B95A748D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E5192-5D3E-4399-A704-2FE09A2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261EC-57C4-4053-B089-5C4C6E7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36B9E-9578-4286-B158-72DF3015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7EF5E-D738-4DA7-A2DA-C4C31910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DBD8E-F13A-4AAC-ABB1-67DCC323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4943CD-BAB1-4D3C-AAAC-8B5F74A4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11B1A-BD15-4663-8142-6BCA4E23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47C9E-FF7B-40E6-9F6B-B6C5F5AB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F44FA-1B4B-4B71-90B7-613F29A9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351E0-17A5-4C98-97FB-1A3D73D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3D1-0A94-4120-86CB-DBA5BCF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A2A26-4868-4DCE-BE49-E4B2B1FB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718F6-7299-4DDE-8CEE-AD9C3B5F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AE759-B906-4BF4-BB49-02267388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027B9-F652-4844-AF3E-6804B19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7E2A3-D487-4D44-86BC-0792F30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94065-CE49-4164-9DAD-51C3F66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D2259-477D-4647-82D6-F995799D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4ADAA-2CC4-465B-B6F7-E46610E4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9897C-063A-4867-AB75-C17DBBC8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EA5DF-FB64-4761-B1CE-09D662AC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4E8-B4F9-4129-8099-F1A827DF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CBFFE-A6E8-48E9-A883-93723A4D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A263F6-E156-4519-97C7-202D802B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30EFF-753A-422F-A996-A21A0C0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BF8B9-97A9-4044-979A-6319D637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E8A55-6651-4DC6-B88E-9884C32E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97DFF-E0ED-4CB3-AEDC-933A7841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6DB4D8-EEAA-4160-A703-B1491AAE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C48AA-C0DC-48A8-A8BF-6C6E65A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C9D1D-9C12-4FD1-AE0E-8E500AE4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CFCA0-72DD-4A32-B384-A7494994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DC72-CA7D-4560-B083-6F16BA35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892130-7C81-475A-9094-2631ED88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C840E2-4492-4975-9328-0D989A3B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88050B-4118-4AEA-81AF-181ADDB9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916A7EB-18F5-4A9A-9104-CEEB5D06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38CEE2-2999-43D6-B194-C189233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6EF2D4-86C6-4FBB-A510-15A6A7D8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A065CB-18CC-4561-BD4E-4122F09B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823128-2B0D-4BD5-9926-3C12175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BB6648-24B5-4640-8BCE-3DC350F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6FD816-CF00-4971-A425-A916326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467-72C4-480E-9648-7C0F8F7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374D34-06D0-42CB-AFC1-5A59681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B5B453-CAD5-4121-81B9-1F637203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7EC46A-C81E-4D27-9F9D-2825E481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897D4-1521-4F19-91DF-7B55CF00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8EE67-9981-4AEE-B0BA-05340369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3705D-848D-4518-944F-D5E7BBCA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F6C64-BA5E-40F4-AEA0-FEAB0EF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53524-42A9-4551-B709-5363BAD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41BA1-E80A-4090-8E17-80808F9F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685A3-2FD2-4873-B559-ADC23015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923-3C5C-4D10-98C2-DA46308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E6FC-DD1B-46FF-B8CC-A11DAC98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3068F-22C3-4077-90B8-73296CB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B0732-F6D0-40CD-A27E-C5C0DDA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4182B-B435-4D71-87B4-58B64404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528D8E-B90C-4A88-A03C-78FD2ACE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8E58A0-1469-45D9-852D-EA66EFF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9DA0-A311-49A2-91C8-24F500A0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DF1-7E15-466A-8BC3-1D8E9AA7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D902-6DD8-49A3-9145-9904241B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17B9-E5A7-4A71-864B-E8DB8A96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35A0-E5E9-42C1-BB3B-817384E7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1C3F-86CD-4A2B-B3DB-CC3A004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594D-8B90-4291-8FCD-6B418528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AE50-BE79-471F-9655-A013DE8E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E873-8C5B-4B6E-83E1-0B45347B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D4B-1A5A-423E-A3F0-0A3C3F0F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F71D-04B3-48AB-A45D-E75F466D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F8CA-2A1E-49F3-B82E-B3F84B4E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855F-1E8A-4BE0-AF4B-E8134A3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A10CF-C90B-4E6F-9D79-BC9E7CA0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CB07-1E3F-43FF-A024-3BE08A33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5382-1A5E-4588-A47A-5AC99DCA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CCBE-5118-4A54-B49E-2C4C78B3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574E2-7B61-4C03-ABE8-AE332C2D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9C94-FCD6-42A0-B29F-715E9AEF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4620-A7D5-4C3F-B491-E3A810C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9D5-E68B-48E2-ABA4-81E09882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53504-99BE-42CB-B320-C7EDCD6B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F3DFD-0DAB-4F15-A419-F1F08A28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DB58-7AD0-4CE3-AE66-CE74D10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CD6D-BC45-4840-B858-EFF7EC2A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9EB5-5BA7-45F3-9E88-B23A534B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6C75-54F6-4FE1-934F-DFE3D09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25AC-9107-4453-97C6-6D8B4932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B411-6BF0-4222-AA73-B5ADB0F3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AC96-1554-4C9A-9E6D-219AF230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FBE28-2F12-4AC8-8DE1-75B99902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F3B-3117-4369-AB5D-8AE1B76B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BAE2-BB22-4BE4-8FDF-D8DA1EA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300F-A138-4A14-B3CC-4E586C80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8ABA7-5DA8-4922-B567-3E9F66BD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F5E90-C199-4C1B-9CDD-6D1FF463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329D9-DC5F-4D9D-8EE7-8C5890B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5EAC-4298-44EE-9644-F867C0E1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3438E-142C-40FC-8ABB-2DE6145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C7871-FF98-4A39-812C-300425C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F5475-C9B7-4A13-AB3F-F5E87D3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689A-E31D-47E6-92B3-7B96F021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79A-0F8C-4D48-994E-67D4659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66181-271E-4A73-9FE2-9D10DF02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65B08-B5FB-4B1E-AA51-704B4FB9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31055-B590-4D47-ADF5-11FA0DAF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DC087-40F3-4C24-9797-1ED0EBA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12E9C-9576-4FFC-9D0D-B1F52E31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38044-9194-4D0C-AB89-660B983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760F-0A85-4375-B572-AB012A31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785F3-4B60-410E-A0E0-29A0ABF9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E13D8-FEDC-49B3-8A48-7C7BA96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CC357-CBAF-4D9B-8F55-63930F5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1FE-256F-41A2-9233-B2CE8A2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7925-0C60-4D46-B04F-CC511357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80C5-E5EF-4049-801C-80FB3F00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81E0C-639D-44C7-B72A-97AE949E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41DEB-6B43-4B15-80F1-ABC7D96D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6599-B1F7-4FD2-828A-D256053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D3EA5-22B3-48BE-BF46-0A0C5AA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44D0F-7338-4487-BA47-394C130B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91395-93B7-46BD-802A-FE092C0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F4C3A-18EF-4496-95EF-4617CE95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4CF25-942F-4149-A2EB-57B09A6B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8F0-F819-4C27-96A8-307957A9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96AD-1EC3-41BB-BDCF-D4673759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B41F4-F563-4E0F-B554-C1D600F4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6B698-6047-4671-83F7-A2345375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A9F64-B37E-4FE7-9809-A67B0F25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77AE-628A-417F-BD66-13DA3877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86576-8D91-4FFA-A08F-F60C90B6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80AB-3850-46D8-8ECA-AE4D2F3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43C22-7649-4E43-B7B3-14240FDF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7905D-A60D-4680-864F-B5D82FF6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42A40-A1C5-4219-A3F8-7F4990F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3C1-44E0-45D6-A988-129D279A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06324-516E-474C-8A5B-027F16EF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1684D-9948-40B2-8059-1DD4C72E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F485B-A3C1-471C-B17E-F2F646EA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E7FA-06B5-48B2-89D5-D0EF390C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89F31-99E5-4898-B74A-124CA788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86EA9-9A21-4A12-BC01-AF7949D0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AE444-2C30-43A6-B34D-9A0F9C1A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E4137-45BD-40FA-9C53-DE785C2E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DAACB-9C29-49BA-AD3F-B3D4528F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FCB5F3-8506-4F29-A8D5-BD35CDA2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C8ED-0526-417F-A9C3-C5DCCF42B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BFB-4FAB-44D4-8327-09802F44B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E59B-E6FA-4266-819E-EE81C86A0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6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7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7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8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9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0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D28-0EDC-4E5E-BE8D-29B3C492B0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4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84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5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85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9A0-8B74-43CD-B244-CB7D0B360D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E3D6-085A-4378-B527-33A962FE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7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7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9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9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4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BCA3-6EAA-4FBF-B576-15B8C9BA924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7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7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7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7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8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8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4B1E-3FBB-4D9F-8B90-1A90D3215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3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3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3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ftr" idx="5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8786-5129-4112-ABE2-C9FF9ADDF1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9612-8655-43E0-A78A-8F054ACC9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A5E-7E11-4C30-A5C5-54ACFB6C0F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8AFB-294E-41EC-8E83-BDF1252A35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E42-79C0-42D6-97EE-2B0F6E06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7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8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1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2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A8FE-7419-46AE-8D85-0EF8CDD6E1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CB75-D20F-41E6-95F0-23691DA38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0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3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54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5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56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61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6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51F-6CC5-43D0-AE2E-72332503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710D-EDF9-4064-AE00-D7FC5E26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1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1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1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of Living Thing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Century Gothic"/>
              </a:rPr>
              <a:t>Living Things are made of units called cel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Bookman Old Style"/>
              </a:rPr>
              <a:t>Living Things reprod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xual reproduction- cells from 2 different parents unite to form the first cell of  the new org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exual reproduction- new organism is formed from a single pa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51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Book Antiqua"/>
              </a:rPr>
              <a:t>Living things are based on a universal genetic code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Franklin Gothic Medium"/>
              </a:rPr>
              <a:t>Living things grow and develo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ving things obtain and use materials and ener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12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1c4d"/>
                </a:solidFill>
                <a:latin typeface="Century"/>
              </a:rPr>
              <a:t>Living things respond to their environment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stimuli – Come from out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imuli – Come from inside the 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Book Antiqua"/>
              </a:rPr>
              <a:t>Living things maintain a stable internal environmen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Sylfaen"/>
              </a:rPr>
              <a:t>Taken as a group, living things change over time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9:14:01Z</dcterms:created>
  <dc:creator>Don Little</dc:creator>
  <dc:description/>
  <dc:language>en-US</dc:language>
  <cp:lastModifiedBy>RomaK</cp:lastModifiedBy>
  <dcterms:modified xsi:type="dcterms:W3CDTF">2015-09-04T10:52:03Z</dcterms:modified>
  <cp:revision>6</cp:revision>
  <dc:subject/>
  <dc:title>Characteristics of Living Things</dc:title>
</cp:coreProperties>
</file>